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7.jpeg" ContentType="image/jpeg"/>
  <Override PartName="/ppt/media/image28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78C-A97A-442A-B589-BC1030D8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92C-7C7F-479F-BA82-8A718D6D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C26-ECD0-4978-9821-075071E7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D0D-21F3-44B8-A2B3-30B60E56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D90B-DE4B-4BFE-A15A-B8D80D6D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C1C2-CF1E-4C48-BD17-5133B136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0EB6-F9EB-464B-B748-5F92F7FF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1554-B0F8-4568-BB20-75B64AEA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9997-3EF8-4B9C-BE2B-8752BA02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F17C-3039-463B-892E-6A092FA6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E6B0-3791-4AB9-A1E0-0EB785B6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7E4-F0C3-4FCA-A6DF-F794A5F1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9ED0-1B1F-4169-BE64-9B67856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F941-A388-47F4-88B0-D050A584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5C32-BBFA-4C7A-BE33-E7493D9C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5405-527A-4026-AEB0-95D86AFD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F9E8-4AD1-4772-ABC3-114E4166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648-377E-4C64-AD93-0DF570E3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0AF-B924-42C6-AF37-58AE91F5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39B-8DBB-4FC4-9462-3632B0D9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0E7-46FC-433D-8B8D-37128580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152-2AF0-425A-A52E-CEC6F70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571-7F22-41A0-9B81-A11A42A9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069-255F-4923-95A8-AE4A39D2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3716-31EA-47A0-9E93-A345B1A54EB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C71E-1C67-4E54-B860-9AE6B82EFCB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ebc3"/>
                </a:solidFill>
                <a:latin typeface="Arial"/>
              </a:rPr>
              <a:t>Las</a:t>
            </a: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bebc3"/>
                </a:solidFill>
                <a:latin typeface="Arial"/>
              </a:rPr>
              <a:t>Comidas</a:t>
            </a:r>
            <a:endParaRPr b="0" lang="en-US" sz="48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 Natalia Banadyg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63852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bc3"/>
                </a:solidFill>
                <a:latin typeface="Arial"/>
              </a:rPr>
              <a:t>Para el desayuno me gusta comer: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3124080"/>
            <a:ext cx="2438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Los panquequ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562120" cy="1790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666880" y="3200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huevos revuelt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105520" y="1219320"/>
            <a:ext cx="2438280" cy="1842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715000" y="3200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ban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80880" y="3657600"/>
            <a:ext cx="2362320" cy="193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molle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3048120" y="3657600"/>
            <a:ext cx="1869840" cy="1981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352680" y="5867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rcRect l="0" t="7368" r="17237" b="0"/>
          <a:stretch/>
        </p:blipFill>
        <p:spPr>
          <a:xfrm>
            <a:off x="5562720" y="3657600"/>
            <a:ext cx="1828800" cy="1914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791320" y="5867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cere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bc3"/>
                </a:solidFill>
                <a:latin typeface="Arial"/>
              </a:rPr>
              <a:t>Para el almuerzo me gusta comer:</a:t>
            </a:r>
            <a:endParaRPr b="0" lang="en-US" sz="36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42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a hamburgues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2209680" cy="1649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8195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34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2362320" cy="1585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876920" y="3886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447920" y="3809880"/>
            <a:ext cx="2361960" cy="1770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28800" y="579132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sop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5943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agua miner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Para una merienda me gusta: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4120" y="3200040"/>
            <a:ext cx="1565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L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nz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ban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200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pretzel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13372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1353960" cy="190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1744560" cy="1752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4300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a barra de granol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572000" y="411480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41972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as galletas de ques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Para la cena me gusta comer: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32763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tacos con muchos vegetales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00400" y="3429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os frijoles al horn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638680" y="1600200"/>
            <a:ext cx="1828800" cy="158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943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mai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2714760" cy="1685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601992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nach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4191120" y="40384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3434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Para el postre me gusta comer: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2174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</a:t>
            </a: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elad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09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aste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2361960" cy="1909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1676160" cy="1668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352680" y="3124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gallet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3581280" y="3809880"/>
            <a:ext cx="1265400" cy="1771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505320" y="5791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5638680" y="1447920"/>
            <a:ext cx="1676520" cy="1654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334120" y="3124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La magdalena de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6"/>
          <a:srcRect l="7136" t="3832" r="10720" b="7909"/>
          <a:stretch/>
        </p:blipFill>
        <p:spPr>
          <a:xfrm>
            <a:off x="5562720" y="38098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62720" y="5791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batid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4:28Z</dcterms:created>
  <dc:creator>banadyganat</dc:creator>
  <dc:description/>
  <dc:language>en-US</dc:language>
  <cp:lastModifiedBy>banadyganat</cp:lastModifiedBy>
  <dcterms:modified xsi:type="dcterms:W3CDTF">2011-04-14T14:58:31Z</dcterms:modified>
  <cp:revision>5</cp:revision>
  <dc:subject/>
  <dc:title>Las Comidas</dc:title>
</cp:coreProperties>
</file>